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F73-9E04-4D44-A89A-DA79B0DA1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EE3-3F7C-4C74-A862-5C556C869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D80-EE06-4CD1-B03A-8868033D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8F9-D3A0-44CD-9D33-5F027B3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700-85B7-4765-9045-60458DAD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749-6DC6-49BB-890F-E78758F7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76CA-222A-4224-A050-4EF718DD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70C8-A0ED-47E4-852E-43824446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90B-38A5-4268-8C43-F2AA068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C73-1F82-43CF-8DA6-878C5939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A8EF-F51B-4FAD-83C7-C064461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FF3-E942-45EB-872D-866CC54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15F-B129-439B-9A61-57E22C5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50B-3242-4C0F-9C4E-39CCE98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C2B-3073-4284-BEAF-37A8BED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1FCD-B348-4D6B-B72E-2DE453B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24D7-2A56-41C9-AEBF-EBA2CDD6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CD63-5842-46A4-9B57-189D2C00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65D-C13C-4653-B8E2-AD25CA0A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F938-BDC2-4759-BCC8-B934A07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A272-7A4E-426C-B613-02EC682B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CA36-993A-4F52-95B4-DCC606AA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0C55-03BD-4E85-BFE2-1BAA0CF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2BC8-6308-44CA-B20E-041F55EE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81F-7C2D-40FA-A08D-E3E6F0DF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CEE6-D43F-43C0-98D3-D61A8D60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2B8E-84A4-448A-BA21-872E1EE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C6D2-58B1-4F1C-A80F-C2A4B07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8689-2A5E-40C0-9876-C87A878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4488-5F1D-4BBC-B401-AF127EF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84C0-42AE-4076-AEED-AC79DEA3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F472-A9FB-4495-905A-1ADB890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D7A8-5328-4EF7-B953-7EEEC091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A51C-927E-41A6-BF70-0D788233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1AD76-874A-4141-AC53-A037F15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903-B10D-4F27-ADC2-A8FC275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D9B6-C013-43C4-8A46-DEEE5B5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36F2-A13C-45C8-A9F2-6B41A3D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6602-99C3-49F2-A0AC-61F7B6C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B253-A7AF-4AA2-8E31-0AE2315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3D9A-F860-47A4-A20C-7201BA8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6101-505C-4BA6-BCF2-F931C89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D4E7-B445-42FE-8EF9-5210C905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90F4-CD3E-4BC4-B1CB-5D342CFE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6984-A24B-49AE-9D0E-0764A95F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3AAB-D9AF-4873-B436-4697B3C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672-7329-42C2-BAD2-AC6B64C8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310C8-5DCD-4611-A4EA-CD6BA70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E0DC-A51A-4B2D-8FBC-D7BD29E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8825-62C2-4024-ADA9-11ED657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B0DF-AB3B-40B9-88AD-D5CEE1E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5F6E-771D-4E5B-8B02-C8FBD57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DB57-3393-4881-8E02-83410B76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66DD-66CC-4AAE-819B-54BB8FC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A26A-6DEB-400C-96B9-B48C10A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20DE-4A77-4021-B074-2B5833B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F130-91C0-4B36-BED5-745E81A4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FC3-6597-4C89-8E2E-C7877FB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15FF-99D0-4675-B261-C5A45AD0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7798-D18B-4C32-93CD-CAE25FC6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663C-C920-4788-9F89-F41C508B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6942D-01F3-48D3-AB51-3B479D1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9C4F-8B9A-477F-A148-E5E97B1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8C31-842A-49CD-A80C-1A7BCE6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98B9-4563-4009-933E-932DF5F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59FD-61EC-41E3-8386-F7D2C7D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79DD4-883D-4458-BD4A-1112F99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D7E3-7146-4EC2-99C4-34074B3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454-93C4-41A4-BD9B-1349CF2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3882-0F5E-4E4D-A6EA-8B4656D7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8FA48-32C9-4711-8C7A-6D87D61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F413-38A9-463E-8DF9-66BAB2D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B771D-DEB4-496A-AD13-37F6B6E7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6BD6-FCAE-4F71-888A-2A39781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214CA-914A-4ACF-8CDD-B1BA247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2658-C86E-4DF2-A628-178A739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CE71B-25F8-4A69-9C12-267391A7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17C62-3748-4F0C-9EAA-8A2A5DE8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FDC5-30DE-40E3-AC83-E6DC5D5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680-2B4E-4299-ABEC-B87C626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4C5F-396D-4C49-BBDA-F660126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343B6-CE9B-4A87-AFE8-A50DA71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837A-E438-4898-9014-EEDBEF8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49EE-3FC8-475B-A69F-53F3A013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ED6E-DB36-4FC7-9F21-FFA6BEE4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575-7781-48F9-AD99-64D6F3E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0F79-46B7-43AE-94BB-76C574A942C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0556-A05F-4F6F-BFBC-A75FCBB9E9D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FCF8-7F55-4379-B8D0-85D7CDE9303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5790-29B9-4236-AC96-77920BC83C2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E4D2-DDF2-4C95-82B1-27089ED1D6F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9C94-C473-4D67-8030-4917199E99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5E8-23C9-411C-B034-8FC43C901E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ublogs.tv/play.php?vid=723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orkville.k12.il.us/webquests/webqfrey/webqsfrey.html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intouch.saisd.net/opencampus/course/view.php?id=33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ntouch.saisd.net/itech/mod/questionnaire/view.php?id=1181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7785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provide technology resources for educators and students alik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905120" y="3276720"/>
            <a:ext cx="55004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de66"/>
                </a:solidFill>
                <a:uFillTx/>
                <a:latin typeface="Corbel"/>
                <a:hlinkClick r:id="rId2"/>
              </a:rPr>
              <a:t>Do you belie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t’s not new, but improved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2266920" y="2992320"/>
            <a:ext cx="4378320" cy="3048120"/>
          </a:xfrm>
          <a:prstGeom prst="rect">
            <a:avLst/>
          </a:prstGeom>
          <a:ln w="0">
            <a:noFill/>
          </a:ln>
        </p:spPr>
      </p:pic>
      <p:pic>
        <p:nvPicPr>
          <p:cNvPr id="317" name="Rectangle 6" descr=""/>
          <p:cNvPicPr/>
          <p:nvPr/>
        </p:nvPicPr>
        <p:blipFill>
          <a:blip r:embed="rId3"/>
          <a:stretch/>
        </p:blipFill>
        <p:spPr>
          <a:xfrm>
            <a:off x="1633680" y="3749760"/>
            <a:ext cx="5651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 -0.06181 C -0.254 -0.11991 -0.20105 -0.16736 -0.13629 -0.16736 L 0.13611 -0.16736 C 0.20139 -0.16736 0.25434 -0.11991 0.25434 -0.06181 L 0.25434 0.17893 C 0.25434 0.2375 0.20139 0.2868 0.13611 0.2868 L -0.13629 0.2868 C -0.20105 0.2868 -0.254 0.2375 -0.254 0.17893 Z">
                                      <p:cBhvr>
                                        <p:cTn id="6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urposeful, planned, and backed up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Diagram 5" descr=""/>
          <p:cNvPicPr/>
          <p:nvPr/>
        </p:nvPicPr>
        <p:blipFill>
          <a:blip r:embed="rId2"/>
          <a:stretch/>
        </p:blipFill>
        <p:spPr>
          <a:xfrm>
            <a:off x="1517760" y="2766960"/>
            <a:ext cx="61084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eb Quests, Online literature circles, VoiceThread, Digital Storytelling, Blogging, Online journaling, Microsoft Office, Moviemaker, iMovie, Podcasting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0880" y="281952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2"/>
              </a:rPr>
              <a:t>Grouchy Lady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3352680" y="28195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4"/>
              </a:rPr>
              <a:t>Online 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C:\Documents and Settings\itls\My Documents\My Pictures\Microsoft Clip Organizer\j0439545.jpg"/>
          <p:cNvPicPr/>
          <p:nvPr/>
        </p:nvPicPr>
        <p:blipFill>
          <a:blip r:embed="rId5"/>
          <a:stretch/>
        </p:blipFill>
        <p:spPr>
          <a:xfrm>
            <a:off x="4419720" y="3352680"/>
            <a:ext cx="914400" cy="689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7"/>
          <p:cNvSpPr/>
          <p:nvPr/>
        </p:nvSpPr>
        <p:spPr>
          <a:xfrm>
            <a:off x="7315200" y="28195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6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7"/>
          <a:stretch/>
        </p:blipFill>
        <p:spPr>
          <a:xfrm>
            <a:off x="7467480" y="33526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9"/>
          <p:cNvSpPr/>
          <p:nvPr/>
        </p:nvSpPr>
        <p:spPr>
          <a:xfrm>
            <a:off x="457200" y="4648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3505320" y="44956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gital Storyte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Voic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6629400" y="4572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ov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1295280" cy="39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9"/>
          <a:stretch/>
        </p:blipFill>
        <p:spPr>
          <a:xfrm>
            <a:off x="7543800" y="5867280"/>
            <a:ext cx="541440" cy="80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itls\Local Settings\Temporary Internet Files\Content.IE5\89ATU4EX\MCj04417340000[1].png"/>
          <p:cNvPicPr/>
          <p:nvPr/>
        </p:nvPicPr>
        <p:blipFill>
          <a:blip r:embed="rId10"/>
          <a:stretch/>
        </p:blipFill>
        <p:spPr>
          <a:xfrm>
            <a:off x="411480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sit ePath: Virtual Learner Series (online course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apt a lesson (could be a warm up, first day of school activity, etc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7" name="Picture 3" descr="C:\Documents and Settings\itls\Local Settings\Temporary Internet Files\Content.IE5\WOQ9OGOQ\MMj02969310000[1].gif"/>
          <p:cNvPicPr/>
          <p:nvPr/>
        </p:nvPicPr>
        <p:blipFill>
          <a:blip r:embed="rId2"/>
          <a:stretch/>
        </p:blipFill>
        <p:spPr>
          <a:xfrm>
            <a:off x="2666880" y="2971800"/>
            <a:ext cx="3497400" cy="294804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5" descr=""/>
          <p:cNvPicPr/>
          <p:nvPr/>
        </p:nvPicPr>
        <p:blipFill>
          <a:blip r:embed="rId3"/>
          <a:stretch/>
        </p:blipFill>
        <p:spPr>
          <a:xfrm>
            <a:off x="1481040" y="2835360"/>
            <a:ext cx="61088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566 0.01527 C -0.48472 -0.00996 -0.4691 -0.03403 -0.43785 -0.03403 C -0.4026 -0.03403 -0.39063 -0.00996 -0.37899 0.01527 C -0.36337 0.04328 -0.35174 0.07129 -0.3125 0.07129 C -0.27743 0.07129 -0.26597 0.04328 -0.25017 0.01527 C -0.24288 -0.00996 -0.22708 -0.03403 -0.19201 -0.03403 C -0.16076 -0.03403 -0.14549 -0.00996 -0.13316 0.01527 C -0.12153 0.04328 -0.10625 0.07129 -0.07083 0.07129 C -0.03559 0.07129 -0.00816 0.01527 -0.00816 0.0155 C 0.00278 -0.00996 0.01528 -0.03403 0.04965 -0.03403 C 0.0849 -0.03403 0.09687 -0.00996 0.10851 0.01527 C 0.12413 0.04328 0.13576 0.07129 0.175 0.07129 C 0.21007 0.07129 0.22153 0.04328 0.23316 0.01527 C 0.24878 -0.00996 0.26042 -0.03403 0.29549 -0.03403 C 0.32674 -0.03403 0.34201 -0.00996 0.35434 0.01527 C 0.36597 0.04328 0.38125 0.07129 0.41667 0.07129 C 0.45191 0.07129 0.46354 0.04328 0.47934 0.01527 E">
                                      <p:cBhvr>
                                        <p:cTn id="12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05:02Z</dcterms:created>
  <dc:creator>itls</dc:creator>
  <dc:description/>
  <dc:language>en-US</dc:language>
  <cp:lastModifiedBy>itls</cp:lastModifiedBy>
  <dcterms:modified xsi:type="dcterms:W3CDTF">2009-08-03T19:20:04Z</dcterms:modified>
  <cp:revision>3</cp:revision>
  <dc:subject/>
  <dc:title>Differentiated Instruction  with  Technology</dc:title>
</cp:coreProperties>
</file>